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ppear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FD71-2A04-4462-90AF-47F6AF9A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9C75-4F20-4412-924E-C789063D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7C2B-DE22-4628-9197-46FEBFA5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BCF-2A75-4BAD-93F2-0AEC2CB1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6C0-CB6B-4700-9000-A90D1348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B78-7D48-476B-9058-3B6579C3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C86-493A-49BE-8D1B-16F255CF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F9F6-716F-4139-B6FB-7B2F2A82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5C4B-FE22-4468-87C4-1553F37E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0744-C060-4A04-975A-E12D3207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CB9-9412-4001-AF89-E4C11D1E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7418-3EB1-4D1E-B8F1-8AC1B851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36C0-6539-47C0-B9BE-C7FADE283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ea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ppea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ppea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ear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audio" Target="../media/appear.wav"/><Relationship Id="rId7" Type="http://schemas.openxmlformats.org/officeDocument/2006/relationships/audio" Target="../media/appear.wav"/><Relationship Id="rId8" Type="http://schemas.openxmlformats.org/officeDocument/2006/relationships/audio" Target="../media/appear.wav"/><Relationship Id="rId9" Type="http://schemas.openxmlformats.org/officeDocument/2006/relationships/audio" Target="../media/appear.wav"/><Relationship Id="rId10" Type="http://schemas.openxmlformats.org/officeDocument/2006/relationships/audio" Target="../media/appear.wav"/><Relationship Id="rId11" Type="http://schemas.openxmlformats.org/officeDocument/2006/relationships/audio" Target="../media/appear.wav"/><Relationship Id="rId12" Type="http://schemas.openxmlformats.org/officeDocument/2006/relationships/audio" Target="../media/appear.wav"/><Relationship Id="rId13" Type="http://schemas.openxmlformats.org/officeDocument/2006/relationships/audio" Target="../media/appear.wav"/><Relationship Id="rId14" Type="http://schemas.openxmlformats.org/officeDocument/2006/relationships/audio" Target="../media/appear.wav"/><Relationship Id="rId15" Type="http://schemas.openxmlformats.org/officeDocument/2006/relationships/audio" Target="../media/appear.wav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765000"/>
            <a:ext cx="7632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¿Qué tal</a:t>
            </a: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¿Cómo estás</a:t>
            </a:r>
            <a:r>
              <a:rPr b="0" lang="en-GB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59280" y="1052640"/>
            <a:ext cx="3008160" cy="47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124000" y="836640"/>
            <a:ext cx="475308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627280" y="476280"/>
            <a:ext cx="38307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00360" y="1125360"/>
            <a:ext cx="38149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0920" y="765000"/>
            <a:ext cx="48960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891040" y="3357720"/>
            <a:ext cx="256860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oy fa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24240" y="3357720"/>
            <a:ext cx="256680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oy 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3357720"/>
            <a:ext cx="256860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oy muy b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91040" y="836640"/>
            <a:ext cx="2568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oy b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24240" y="836640"/>
            <a:ext cx="2566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oy re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836640"/>
            <a:ext cx="2568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ta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está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836640"/>
            <a:ext cx="7704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3357720"/>
            <a:ext cx="770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5840280"/>
            <a:ext cx="7704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836640"/>
            <a:ext cx="0" cy="5003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24240" y="836640"/>
            <a:ext cx="0" cy="500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91040" y="836640"/>
            <a:ext cx="0" cy="500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459640" y="836640"/>
            <a:ext cx="0" cy="5003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067280" y="1052640"/>
            <a:ext cx="1123920" cy="158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354720" y="1125360"/>
            <a:ext cx="1584360" cy="1482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500120" y="3608280"/>
            <a:ext cx="995400" cy="1584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851280" y="3716280"/>
            <a:ext cx="1440000" cy="1424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443640" y="3716280"/>
            <a:ext cx="144000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2:42:53Z</dcterms:created>
  <dc:creator>Helen</dc:creator>
  <dc:description/>
  <dc:language>en-US</dc:language>
  <cp:lastModifiedBy>Helen</cp:lastModifiedBy>
  <dcterms:modified xsi:type="dcterms:W3CDTF">2008-09-15T13:01:35Z</dcterms:modified>
  <cp:revision>3</cp:revision>
  <dc:subject/>
  <dc:title>Slide 1</dc:title>
</cp:coreProperties>
</file>